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DE70-D027-4F81-B98B-7EFDC58AB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3F93-A2F7-496F-8073-180F832B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F8E3-19F2-40A5-B4B7-F2A517084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6CF8-7EF4-4D2B-8A0E-C178FF05D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33D1-13B2-46D7-A737-F224C2EF0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4F14-785C-4FB5-8E2F-82308405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EEE42-4165-4839-AD68-9ED613D4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457F-DBBE-4D2D-B11D-275E8F8E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E953-1BCF-49EA-B5CA-617413B0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D5FA-EE59-4605-B97D-04DECE6D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F75B-DCFA-4AB0-95EC-18BE4B08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6AAC-B4BA-4851-8052-67E15BD0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90DA3-208A-4057-93E3-7B4666EC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D4D3-D84C-4E99-9AD8-1E48424B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FD5A-F3F6-4D41-B964-33A12D91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CDD33-C5EF-4899-8DFC-54E1E2AE3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B629-8681-494D-A4CA-E754BF855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EA10-1147-4DDE-8C0C-9377A078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A2A5-D33B-404E-9E8E-1B160F30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DE1D-89A4-4456-BC6E-BD5EEC61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AC94-95C4-450B-B279-870E5C34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8E11-9C13-462B-9AAD-E1B60D90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2DAE-9F50-4FBC-A4BF-7BCC1FBB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8789-3F2F-4AA1-8FEB-39755253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Freeform 6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>
                  <a:gd name="textAreaLeft" fmla="*/ 0 w 7564320"/>
                  <a:gd name="textAreaRight" fmla="*/ 7564680 w 756432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CAA3-1578-4925-886A-021991ACA432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Group 3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Rectangle 4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5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6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7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8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9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>
                  <a:gd name="textAreaLeft" fmla="*/ 0 w 7564320"/>
                  <a:gd name="textAreaRight" fmla="*/ 7564680 w 756432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10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Rectangle 11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Group 12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Picture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Freeform 14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>
                    <a:gd name="textAreaLeft" fmla="*/ 0 w 1412640"/>
                    <a:gd name="textAreaRight" fmla="*/ 1413000 w 141264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Freeform 15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>
                    <a:gd name="textAreaLeft" fmla="*/ 0 w 1413000"/>
                    <a:gd name="textAreaRight" fmla="*/ 1413000 w 141300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16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>
                    <a:gd name="textAreaLeft" fmla="*/ 0 w 1413000"/>
                    <a:gd name="textAreaRight" fmla="*/ 1413000 w 141300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9DE5-9CBE-4444-8151-2D2DB3A7417C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hmslemon.wikispaces.com/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steens.org/" TargetMode="External"/><Relationship Id="rId2" Type="http://schemas.openxmlformats.org/officeDocument/2006/relationships/hyperlink" Target="http://www.michigan.gov/documents/ag/Michigan_CSI_Program_Summary_200688_7.pdf" TargetMode="External"/><Relationship Id="rId3" Type="http://schemas.openxmlformats.org/officeDocument/2006/relationships/hyperlink" Target="http://www.archive.org/web/web.php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thinkfinity.org/" TargetMode="External"/><Relationship Id="rId2" Type="http://schemas.openxmlformats.org/officeDocument/2006/relationships/hyperlink" Target="http://www.mivu.org/" TargetMode="External"/><Relationship Id="rId3" Type="http://schemas.openxmlformats.org/officeDocument/2006/relationships/hyperlink" Target="http://www.nettrekker.com/us/overview" TargetMode="External"/><Relationship Id="rId4" Type="http://schemas.openxmlformats.org/officeDocument/2006/relationships/hyperlink" Target="http://www.microsoft.com/learningessentials/default.mspx" TargetMode="External"/><Relationship Id="rId5" Type="http://schemas.openxmlformats.org/officeDocument/2006/relationships/hyperlink" Target="http://www.educationlabs.com/projects/MathWorksheetGenerator/Pages/default.aspx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Technology 101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ice Ra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1600200" y="50292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view this PowerPoint and the hyperlinks within, go to </a:t>
            </a:r>
            <a:r>
              <a:rPr b="0" lang="en-US" sz="2400" spc="-1" strike="noStrike" u="sng">
                <a:solidFill>
                  <a:srgbClr val="cc9900"/>
                </a:solidFill>
                <a:uFillTx/>
                <a:latin typeface="Times New Roman"/>
                <a:hlinkClick r:id="rId2"/>
              </a:rPr>
              <a:t>http://hmslemon.wikispace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ork Smarter Not Harder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828800"/>
            <a:ext cx="78105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w.teach-nology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ite requires a membership for full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w.atozteacherstuff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ool.discoveryeducation.com/lessonp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w.edhelper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ed access without paid memb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w.lessonplanz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D-edtech wi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ite was created for inservice teachers at UMD.  It is a great tool for anyone interested in the integration of technology into the curricul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8920" y="304920"/>
            <a:ext cx="75643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996633"/>
                </a:solidFill>
                <a:latin typeface="Times New Roman"/>
              </a:rPr>
              <a:t>HMS Teacher Wiki</a:t>
            </a:r>
            <a:endParaRPr b="0" i="1" lang="en-US" sz="7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1523880" y="1905120"/>
            <a:ext cx="739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wiki is a work in progr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oal of the HMS Teacher Wiki is to create a one-stop resource share for teachers at Hilbert Middle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ers who choose to join this Wiki will be able to add content that would be useful to co-teachers, parents and students a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on the link above to view some useful online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ork Smarter Not Harder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ktop 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Fo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ing folders, your classroom or Lab LM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ving to Lab LMC with k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–Save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share- Lab L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er Folder – create  your own or have one created for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ork Smarter Not Harder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s and Attach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ing 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ght click on them and open with 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ails out of order – click on received and will put them back in date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t screen- good for viewing spam fo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 Book – create distribution lists –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email – to box- New button- distribution list – add new name and email addr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ork Smarter Not Harder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 Saf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SmartSa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Times New Roman"/>
                <a:hlinkClick r:id="rId1"/>
              </a:rPr>
              <a:t>NS tee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stalkers, posting things onlin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hives – stuff that NEVER GOE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yberbu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9900"/>
                </a:solidFill>
                <a:uFillTx/>
                <a:latin typeface="Times New Roman"/>
                <a:hlinkClick r:id="rId2"/>
              </a:rPr>
              <a:t>http://www.michigan.gov/documents/ag/Michigan_CSI_Program_Summary_200688_7.p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3" descr="wayback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9000" y="4038480"/>
            <a:ext cx="19432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ork Smarter Not Harder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Eng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gle, Bing, MSN, Yah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ven by advertising and money(sponsored lin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kipedia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 changing – user can modify the text- not always rel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s – give credit – plagiarism, citation etc. and credi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ork Smarter Not Harder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7924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gov –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edu – edu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com – comme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mil – mili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net -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org – orga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8" descr="C:\Program Files\Microsoft Office\Clipart\smbusbas\BS00093_.wmf"/>
          <p:cNvPicPr/>
          <p:nvPr/>
        </p:nvPicPr>
        <p:blipFill>
          <a:blip r:embed="rId1"/>
          <a:stretch/>
        </p:blipFill>
        <p:spPr>
          <a:xfrm>
            <a:off x="5367240" y="2101680"/>
            <a:ext cx="3738600" cy="38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 Search –narrow your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ger vs. T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berian Ti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berian Tige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 Blue li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s and Videos – blocked but can be opened if you a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s, News and Shopping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ork Smarter Not Harder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ork Smarter Not Harder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d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er keywords, titles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ve out things – ebay and amaz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 type – PDF, PowerPoint, Word, Excel and Pictures- .jpg or .b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on Plans –usually comes with worksheets and anything else you might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ork Smarter Not Harder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 Websites with Lesson P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Times New Roman"/>
                <a:hlinkClick r:id="rId1"/>
              </a:rPr>
              <a:t>Thinkfi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u Michigan Virtual University  Thru Learnport- free to all Michigan Teach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9900"/>
                </a:solidFill>
                <a:uFillTx/>
                <a:latin typeface="Times New Roman"/>
                <a:hlinkClick r:id="rId2"/>
              </a:rPr>
              <a:t>www.mivu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9900"/>
                </a:solidFill>
                <a:uFillTx/>
                <a:latin typeface="Times New Roman"/>
                <a:hlinkClick r:id="rId3"/>
              </a:rPr>
              <a:t>NetTrekk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other useful resour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Times New Roman"/>
                <a:hlinkClick r:id="rId4"/>
              </a:rPr>
              <a:t>www.microsoft.com/learningessentials/default.msp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will need to download learning essentia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Times New Roman"/>
                <a:hlinkClick r:id="rId5"/>
              </a:rPr>
              <a:t>Math Worksheet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recipes4success.com/index.p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ail to follow with all hot links needed for Microsoft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17:26:41Z</dcterms:created>
  <dc:creator>radena</dc:creator>
  <dc:description/>
  <dc:language>en-US</dc:language>
  <cp:lastModifiedBy>Pamela Rizzo</cp:lastModifiedBy>
  <dcterms:modified xsi:type="dcterms:W3CDTF">2010-11-02T03:59:28Z</dcterms:modified>
  <cp:revision>35</cp:revision>
  <dc:subject/>
  <dc:title>Technology 101</dc:title>
</cp:coreProperties>
</file>